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28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9E8-36E5-42EC-B14B-971043BC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B1AE-A8ED-4409-AE4B-FAEFBF6C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A30-D13B-4A5D-B64B-9392F2F2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DDB-D9AE-4E5E-9C2F-984B5F7E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8CEF-C22B-46FD-BD98-EF9FD67B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A7AA-C934-48BD-8AC9-FF8D76EE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1B09-55F5-4CBE-AD20-7BF4EFC6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0B33-B240-44C3-9E5F-945A6B8E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4D2E-E742-4115-8EBD-FBEF3B10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C487-83D6-4FFF-AE7B-7C57404B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7B52-E49A-4D54-B44D-8E33646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BAF9-C819-43E8-A37F-BCCFDB5F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D01F-2F9E-451F-818D-BF700047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7C96-FDDB-47B8-9D65-C7155C3B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144A-F620-42E2-8A81-65BC1B3B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3650-2CC2-4557-B32E-E7CD2EB1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A5BA-EC69-4BBE-B3C3-A2D9BD8B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D669-0AF4-4B48-8FD6-098D013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05D1-2400-4921-B5DF-F8EF6EBA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78DF-2EEC-471A-B1A8-8DF37120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89AD-44F3-465B-9AF2-9D4E9328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9B2-A54C-4092-9CCA-592E9F5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A73-1AE1-483A-AE45-9077D80C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E79F-5780-412F-BE81-8D76E3CC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A279-C332-4558-9088-57A6F84A210A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F136-2C4C-4687-974B-8C94AE1A5735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536400" y="304920"/>
            <a:ext cx="7785360" cy="2030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74d26"/>
              </a:solidFill>
              <a:latin typeface="Arial"/>
            </a:endParaRPr>
          </a:p>
        </p:txBody>
      </p:sp>
      <p:pic>
        <p:nvPicPr>
          <p:cNvPr id="84" name="Picture 2" descr="F:\Школа\Конференция\Письма с фронта\icon.jpg"/>
          <p:cNvPicPr/>
          <p:nvPr/>
        </p:nvPicPr>
        <p:blipFill>
          <a:blip r:embed="rId2"/>
          <a:stretch/>
        </p:blipFill>
        <p:spPr>
          <a:xfrm>
            <a:off x="1835280" y="3573360"/>
            <a:ext cx="496872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7" descr=""/>
          <p:cNvPicPr/>
          <p:nvPr/>
        </p:nvPicPr>
        <p:blipFill>
          <a:blip r:embed="rId1"/>
          <a:stretch/>
        </p:blipFill>
        <p:spPr>
          <a:xfrm>
            <a:off x="463680" y="152280"/>
            <a:ext cx="6778440" cy="1122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95280" y="1268280"/>
            <a:ext cx="4897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дравствуй, папка! Ты опять мне снился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лько в этот раз не на войн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 немножко даже удивилась –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о чего ты прежний был во сне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апа! Ты вернешься невредимый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дь война когда-нибудь пройдет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ленький, голубчик мой родимый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Знаешь, вправду скоро Новый год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 тебя, конечно, поздравля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 желаю вовсе не болеть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Я тебя желаю-прежелаю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скорей фашистов одолеть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Чтоб над всем таким большущим мир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не и ночью был веселый свет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клонись бойцам и командирам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дай им от меня привет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желай им всякую удачу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усть идут на немцев день и ноч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 пишу тебе и чуть не плачу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так… от счастья… Твоя доч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3" descr="C:\Documents and Settings\OEM\Мои документы\Мои рисунки\iCAHPQC6A.jpg"/>
          <p:cNvPicPr/>
          <p:nvPr/>
        </p:nvPicPr>
        <p:blipFill>
          <a:blip r:embed="rId2"/>
          <a:stretch/>
        </p:blipFill>
        <p:spPr>
          <a:xfrm>
            <a:off x="4211640" y="1413000"/>
            <a:ext cx="355284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Documents and Settings\OEM\Мои документы\Мои рисунки\66799fedaaebeb2ac1528278557.jpg"/>
          <p:cNvPicPr/>
          <p:nvPr/>
        </p:nvPicPr>
        <p:blipFill>
          <a:blip r:embed="rId3"/>
          <a:stretch/>
        </p:blipFill>
        <p:spPr>
          <a:xfrm>
            <a:off x="5508720" y="3500280"/>
            <a:ext cx="280836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2" descr=""/>
          <p:cNvPicPr/>
          <p:nvPr/>
        </p:nvPicPr>
        <p:blipFill>
          <a:blip r:embed="rId1"/>
          <a:stretch/>
        </p:blipFill>
        <p:spPr>
          <a:xfrm>
            <a:off x="390600" y="304920"/>
            <a:ext cx="8240760" cy="18889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лексей Сурко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ергей Орло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нстантин Симонов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Елена Благини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Михаил Исаковски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Заголовок 1" descr=""/>
          <p:cNvPicPr/>
          <p:nvPr/>
        </p:nvPicPr>
        <p:blipFill>
          <a:blip r:embed="rId1"/>
          <a:stretch/>
        </p:blipFill>
        <p:spPr>
          <a:xfrm>
            <a:off x="463680" y="96840"/>
            <a:ext cx="8242200" cy="123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взял боец трехрядку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разу видно – гармони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началу,  для порядк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роковые, роковы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инцовые, пороховые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йна гуляет по Росс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…………………………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 небоскло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шумным дожд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……………………………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цветали яблони и груш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лыли туманы над рек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ила на берег Катюш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олдаты иду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тепи опаленно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ихо песни пою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……………………………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в ог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кал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стра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до Берл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с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с вой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друзь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нельз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пехо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боло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небосво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 прид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ворческая работа: Написать сочинение-миниатюру на тему «Долгожданная Побед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енная зарисовка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ртины Побед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сенний день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ца люде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иков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знакомим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 страницами военной истори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архивными документ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 поэзией о войне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8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76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42577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2276280"/>
            <a:ext cx="4537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ПИСТОЛА</a:t>
            </a:r>
            <a:r>
              <a:rPr b="0" lang="en-US" sz="2400" spc="-1" strike="noStrike">
                <a:solidFill>
                  <a:srgbClr val="ffffff"/>
                </a:solidFill>
                <a:latin typeface="Lucida Sans"/>
              </a:rPr>
              <a:t>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письмо) возникло в Грец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еки высоко ценили возможность рассказывать письменно друг другу о жизни, ведь это самая удачная форма письменного обращения к другому лиц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2" descr="C:\Documents and Settings\OEM\Мои документы\Мои рисунки\ГРЕЦИЯ\49895.jpg"/>
          <p:cNvPicPr/>
          <p:nvPr/>
        </p:nvPicPr>
        <p:blipFill>
          <a:blip r:embed="rId2"/>
          <a:stretch/>
        </p:blipFill>
        <p:spPr>
          <a:xfrm>
            <a:off x="4827600" y="1523880"/>
            <a:ext cx="4151160" cy="4962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31669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182520" y="244440"/>
            <a:ext cx="8875800" cy="1182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684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стема графических знаков, употребляемых для писан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художественного изображения действительности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умага с написанным текстом, посылаемая кому-либо для сообщения чего-либо на расстоя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Picture 2" descr="C:\Documents and Settings\OEM\Мои документы\Мои рисунки\financial_BU010652_sm(1).jpg"/>
          <p:cNvPicPr/>
          <p:nvPr/>
        </p:nvPicPr>
        <p:blipFill>
          <a:blip r:embed="rId2"/>
          <a:stretch/>
        </p:blipFill>
        <p:spPr>
          <a:xfrm>
            <a:off x="6443640" y="3789360"/>
            <a:ext cx="2305080" cy="2292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OEM\Мои документы\Мои рисунки\check.jpg"/>
          <p:cNvPicPr/>
          <p:nvPr/>
        </p:nvPicPr>
        <p:blipFill>
          <a:blip r:embed="rId3"/>
          <a:stretch/>
        </p:blipFill>
        <p:spPr>
          <a:xfrm>
            <a:off x="6488280" y="1484280"/>
            <a:ext cx="2116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8242560" cy="11826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95280" y="2349000"/>
            <a:ext cx="4038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огненные годы Великой Отечественной войны без писем не могли обойтись ни воины, ни труженики тыла – никто. Ведь весточками с фронта люди жил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F:\Школа\Конференция\Письма с фронта\2684970.jpg"/>
          <p:cNvPicPr/>
          <p:nvPr/>
        </p:nvPicPr>
        <p:blipFill>
          <a:blip r:embed="rId2"/>
          <a:stretch/>
        </p:blipFill>
        <p:spPr>
          <a:xfrm>
            <a:off x="4356000" y="1484280"/>
            <a:ext cx="403884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F:\Школа\Конференция\Письма с фронта\974_585714590_big.jpg"/>
          <p:cNvPicPr/>
          <p:nvPr/>
        </p:nvPicPr>
        <p:blipFill>
          <a:blip r:embed="rId3"/>
          <a:stretch/>
        </p:blipFill>
        <p:spPr>
          <a:xfrm>
            <a:off x="5219640" y="3573360"/>
            <a:ext cx="366228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F:\Школа\Конференция\Письма с фронта\1511229.jpg"/>
          <p:cNvPicPr/>
          <p:nvPr/>
        </p:nvPicPr>
        <p:blipFill>
          <a:blip r:embed="rId1"/>
          <a:stretch/>
        </p:blipFill>
        <p:spPr>
          <a:xfrm>
            <a:off x="4643280" y="333360"/>
            <a:ext cx="3673800" cy="2849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Documents and Settings\OEM\Мои документы\Мои рисунки\ГРЕЦИЯ\17.jpg"/>
          <p:cNvPicPr/>
          <p:nvPr/>
        </p:nvPicPr>
        <p:blipFill>
          <a:blip r:embed="rId2"/>
          <a:stretch/>
        </p:blipFill>
        <p:spPr>
          <a:xfrm>
            <a:off x="5076720" y="2852640"/>
            <a:ext cx="3810240" cy="3048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475308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к раскладывать по квартала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лоса всех живых и мертвых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б дошли, словно гул металл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реугольниках полустертых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лько адрес есть на конверте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в конверте – жизни и смерт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б знать Вам, на почте тут ж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внутри там! Был в окруженье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? Нашелся? Ранен? Контужен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л, по слухам, в первом сраженье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приходит девочка в стар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битых набок маминых бо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берет всех судеб удары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ость чью-то и смерть кого-т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5698800" cy="58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альонов ждали, ждали с нетерпением и затаенной тревогой измученные, исстрадавшиеся адресаты. Кроме писем и газет, они всегда носили пузырьки с нашатырным спиртом.  Иначе нельзя. Они были и почтой и «скорой помощью». В четырех письмах – радость, а в пятом – похоронка. Это было великое гор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альонки, пряча глаза, глот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лезы, не находя слов утешени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увствовали свою невольную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ину за это письм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хоронка, похоронка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ый камень на груд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пудовый на груд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ворила баба Наст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очтальонки не хо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2" descr="C:\Documents and Settings\OEM\Мои документы\Мои рисунки\44308103_5.jpg"/>
          <p:cNvPicPr/>
          <p:nvPr/>
        </p:nvPicPr>
        <p:blipFill>
          <a:blip r:embed="rId1"/>
          <a:stretch/>
        </p:blipFill>
        <p:spPr>
          <a:xfrm>
            <a:off x="6084720" y="189000"/>
            <a:ext cx="2827440" cy="436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OEM\Мои документы\Мои рисунки\Zim118.jpg"/>
          <p:cNvPicPr/>
          <p:nvPr/>
        </p:nvPicPr>
        <p:blipFill>
          <a:blip r:embed="rId2"/>
          <a:stretch/>
        </p:blipFill>
        <p:spPr>
          <a:xfrm>
            <a:off x="4427640" y="2492280"/>
            <a:ext cx="2779560" cy="3751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Documents and Settings\OEM\Мои документы\Мои рисунки\iCAOB56YN.jpg"/>
          <p:cNvPicPr/>
          <p:nvPr/>
        </p:nvPicPr>
        <p:blipFill>
          <a:blip r:embed="rId3"/>
          <a:stretch/>
        </p:blipFill>
        <p:spPr>
          <a:xfrm>
            <a:off x="6732720" y="5084640"/>
            <a:ext cx="219528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3" descr=""/>
          <p:cNvPicPr/>
          <p:nvPr/>
        </p:nvPicPr>
        <p:blipFill>
          <a:blip r:embed="rId1"/>
          <a:stretch/>
        </p:blipFill>
        <p:spPr>
          <a:xfrm>
            <a:off x="171360" y="201600"/>
            <a:ext cx="8807400" cy="1041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57000"/>
            <a:ext cx="4038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Нас осталось мало. К вечеру подойдет подкрепление, а до вечера будем драться до последней капли крови, но врагу своей позиции не отдадим. Береги сы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Был на передовой. Излазил ее, а потом на шинели насчитал 50 пулевых дыр. Но не отлили той пули, которая сразила бы меня. Обо мне, мама, не беспокойся. Я вернусь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4" descr="F:\Школа\Конференция\Письма с фронта\71053_20080326144005.jpg"/>
          <p:cNvPicPr/>
          <p:nvPr/>
        </p:nvPicPr>
        <p:blipFill>
          <a:blip r:embed="rId2"/>
          <a:stretch/>
        </p:blipFill>
        <p:spPr>
          <a:xfrm>
            <a:off x="5364000" y="4076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F:\Школа\Конференция\Письма с фронта\st_w590_vov_11.jpg"/>
          <p:cNvPicPr/>
          <p:nvPr/>
        </p:nvPicPr>
        <p:blipFill>
          <a:blip r:embed="rId3"/>
          <a:stretch/>
        </p:blipFill>
        <p:spPr>
          <a:xfrm>
            <a:off x="4500720" y="1557360"/>
            <a:ext cx="309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4619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дном фронтовом треугольничке приписка: «Дорогая военная цензура! Не выкидывай этот цветок. Я посылаю его для любимой девушки». А внутри письма какой-то засушенный цветок. Смотришь на него – и слезы подступаю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Я вернусь», «Жди меня» – этими словами завершались послания к родным . В них, в этих словах, были и надежда, и заклинание, и вера в победу жизни над смертью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2" descr="F:\Школа\Конференция\Письма с фронта\image013.jpg"/>
          <p:cNvPicPr/>
          <p:nvPr/>
        </p:nvPicPr>
        <p:blipFill>
          <a:blip r:embed="rId1"/>
          <a:stretch/>
        </p:blipFill>
        <p:spPr>
          <a:xfrm>
            <a:off x="5292720" y="333360"/>
            <a:ext cx="3419640" cy="2422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F:\Школа\Конференция\Письма с фронта\7.jpg"/>
          <p:cNvPicPr/>
          <p:nvPr/>
        </p:nvPicPr>
        <p:blipFill>
          <a:blip r:embed="rId2"/>
          <a:stretch/>
        </p:blipFill>
        <p:spPr>
          <a:xfrm>
            <a:off x="5148360" y="2421000"/>
            <a:ext cx="2830320" cy="1871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:\Школа\Конференция\Письма с фронта\24572451_2078038.jpg"/>
          <p:cNvPicPr/>
          <p:nvPr/>
        </p:nvPicPr>
        <p:blipFill>
          <a:blip r:embed="rId3"/>
          <a:stretch/>
        </p:blipFill>
        <p:spPr>
          <a:xfrm>
            <a:off x="5580000" y="3933720"/>
            <a:ext cx="34401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9:54:52Z</dcterms:created>
  <dc:creator> </dc:creator>
  <dc:description/>
  <dc:language>en-US</dc:language>
  <cp:lastModifiedBy> </cp:lastModifiedBy>
  <dcterms:modified xsi:type="dcterms:W3CDTF">2011-04-11T12:56:12Z</dcterms:modified>
  <cp:revision>34</cp:revision>
  <dc:subject/>
  <dc:title>ЧАС МУЖЕСТВА.</dc:title>
</cp:coreProperties>
</file>