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4B24-8890-4713-9904-0FBA3D8D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5175-0B29-4F61-86B5-8A862188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A896-05FD-4B3F-B083-E09690A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17FA-7BB2-4D30-BAD1-7665D745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8FA-EFB4-49B8-BED8-81C106A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058C-F277-4847-8EB5-5171751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AF2C-BB58-4243-8B6A-A1F126D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9344-78E3-40C4-8D2E-7DE4AC78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BC6-7DD2-4D91-ABD0-AA5BD97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D20A-1007-4005-8F95-72309352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8379-275B-46E4-97F1-E3ECB63A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FBA5-F966-41E7-9DEC-E926A13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225-67BE-4C31-A9BE-F880A87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3F67-E6DD-46CC-9786-9D92696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2EE-1FD2-4678-AD70-B99E7E5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D261-27D8-46E6-8809-E380A515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7BAA-BCBA-4C10-9E80-F92F917B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3A6A-7241-4EDB-B4A2-2624E2D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0470-A962-49D8-B595-015B74C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CED3-4200-4ED1-8867-5AE00AF5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BF6D-BF0C-41F6-A638-2DD65DE5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B305-DE74-4F13-B0A9-50477403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0A2E-BB86-4BFE-A122-5AB4F5C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70C5-64AC-487D-9681-921E143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F93-F557-4B8B-BAFD-9FB1A3D4EA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88F-2ED7-47B3-ABCE-3E63B0E5D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60;&#1086;&#1090;&#1086;&#1075;&#1088;&#1072;&#1092;&#1080;&#1080;%20&#1087;&#1080;&#1085;&#1075;&#1074;&#1080;&#1085;&#1086;&#1074;&amp;p=2&amp;img_url=skuky.net%2Fwp-content%2Fuploads%2F2009%2F08%2Fmarch-of-the-penguins-in-san-francisco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ed=1&amp;text=&#1060;&#1086;&#1090;&#1086;&#1075;&#1088;&#1072;&#1092;&#1080;&#1080;%20&#1087;&#1080;&#1085;&#1075;&#1074;&#1080;&#1085;&#1086;&#1074;&amp;p=15&amp;img_url=upload.wikimedia.org%2Fwikipedia%2Fcommons%2Fthumb%2F1%2F18%2F3045-saunders-gentoo_RJ.jpg%2F275px-3045-saunders-gentoo_RJ.jpg&amp;rpt=simage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60;&#1086;&#1090;&#1086;&#1075;&#1088;&#1072;&#1092;&#1080;&#1080;%20&#1079;&#1077;&#1073;&#1088;&#1099;&amp;p=0&amp;img_url=www.myjulia.ru%2Fdata%2Fcache%2F2010%2F08%2F26%2F501916_6061-0x600.jpg&amp;rpt=simage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60;&#1086;&#1090;&#1086;&#1075;&#1088;&#1072;&#1092;&#1080;&#1080;%20&#1087;&#1072;&#1074;&#1080;&#1072;&#1085;&#1072;&amp;p=10&amp;img_url=www.dinofish.com%2Fwmgallery%2Fimages%2Fbaboon%2520jaws.jpg&amp;rpt=simage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Где живут белые медведи и слон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У СОШ №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брова Л.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78200"/>
            <a:ext cx="3382920" cy="338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116000"/>
            <a:ext cx="383256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704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1438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Слоны на водопое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6341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Дружелюбный слон"/>
          <p:cNvPicPr/>
          <p:nvPr/>
        </p:nvPicPr>
        <p:blipFill>
          <a:blip r:embed="rId1"/>
          <a:stretch/>
        </p:blipFill>
        <p:spPr>
          <a:xfrm>
            <a:off x="1042920" y="404640"/>
            <a:ext cx="69897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3600360" cy="367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410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105440" cy="343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39607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5280" y="836640"/>
            <a:ext cx="5400720" cy="914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йоны Зем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852640"/>
            <a:ext cx="3168720" cy="914400"/>
          </a:xfrm>
          <a:prstGeom prst="rect">
            <a:avLst/>
          </a:prstGeom>
          <a:solidFill>
            <a:srgbClr val="0099cc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хол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52640"/>
            <a:ext cx="3025800" cy="914400"/>
          </a:xfrm>
          <a:prstGeom prst="rect">
            <a:avLst/>
          </a:prstGeom>
          <a:solidFill>
            <a:srgbClr val="99ff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ёпл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724280"/>
            <a:ext cx="2016000" cy="1203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довит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4724280"/>
            <a:ext cx="1871640" cy="1203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ар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724280"/>
            <a:ext cx="1584360" cy="1225800"/>
          </a:xfrm>
          <a:prstGeom prst="rect">
            <a:avLst/>
          </a:prstGeom>
          <a:solidFill>
            <a:srgbClr val="99ff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4724280"/>
            <a:ext cx="2160720" cy="1204920"/>
          </a:xfrm>
          <a:prstGeom prst="rect">
            <a:avLst/>
          </a:prstGeom>
          <a:solidFill>
            <a:srgbClr val="99ff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339640" y="1773360"/>
            <a:ext cx="158436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773360"/>
            <a:ext cx="11509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47640" y="3789360"/>
            <a:ext cx="72072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3789360"/>
            <a:ext cx="1151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867280" y="3789360"/>
            <a:ext cx="432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55640" y="1413000"/>
            <a:ext cx="7632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4392720" cy="542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2133720"/>
            <a:ext cx="594828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ругом снег и ле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219560" cy="316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250920" y="184464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136000" cy="4526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еверный полюс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264360" cy="435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370692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41320" y="494172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ор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14010.JPG"/>
          <p:cNvPicPr/>
          <p:nvPr/>
        </p:nvPicPr>
        <p:blipFill>
          <a:blip r:embed="rId1"/>
          <a:stretch/>
        </p:blipFill>
        <p:spPr>
          <a:xfrm>
            <a:off x="324000" y="620640"/>
            <a:ext cx="4038480" cy="3052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осатка (Killer Whale) - Orcinus orca. 4"/>
          <p:cNvPicPr/>
          <p:nvPr/>
        </p:nvPicPr>
        <p:blipFill>
          <a:blip r:embed="rId2"/>
          <a:stretch/>
        </p:blipFill>
        <p:spPr>
          <a:xfrm>
            <a:off x="5796000" y="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27640" y="4653000"/>
            <a:ext cx="27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каса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57340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елу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0"/>
            <a:ext cx="16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тюл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Владивосток. Набережная. Белуха (Delphinapterus leucas). 12 марта 2006 г."/>
          <p:cNvPicPr/>
          <p:nvPr/>
        </p:nvPicPr>
        <p:blipFill>
          <a:blip r:embed="rId3"/>
          <a:stretch/>
        </p:blipFill>
        <p:spPr>
          <a:xfrm>
            <a:off x="324000" y="3716280"/>
            <a:ext cx="5003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79280" y="1197000"/>
            <a:ext cx="4537080" cy="3541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елый медвед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4076640" y="3479760"/>
            <a:ext cx="50673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дведица с медвежонко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81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Южный полю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8920" y="1600200"/>
            <a:ext cx="608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11:05Z</dcterms:created>
  <dc:creator>--</dc:creator>
  <dc:description/>
  <dc:language>en-US</dc:language>
  <cp:lastModifiedBy>Samsung</cp:lastModifiedBy>
  <dcterms:modified xsi:type="dcterms:W3CDTF">2013-03-28T15:21:02Z</dcterms:modified>
  <cp:revision>13</cp:revision>
  <dc:subject/>
  <dc:title>Где живут белые медведи и слоны.</dc:title>
</cp:coreProperties>
</file>