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CBD-FF62-4FE2-9E3F-D99CC5F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595-E233-4BAF-B934-54651811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134-8964-4119-BF19-084FD26E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187-341B-4487-A1B0-1C11E374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F925F-2C91-463D-94A0-898361FF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7D82F-7B6F-40E5-8B69-F53B75C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25A9-15E4-4696-BECC-139CD6F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BA34-6A22-46C8-A58A-C8E7E3F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4631A-274A-4382-9AE1-93B2139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9516-C7BF-4A95-A88F-7D398E3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DEFC-BFE8-4AC4-9A4E-53608DF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811-307D-4813-ADA6-9740AC0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4EC56-FA49-46F9-9C1C-8686252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72A1E-1B34-45C5-8A3E-5E6BD1B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DCBCA-F450-4285-B0D5-19ACFA00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D5E1-AE5B-420F-B529-D0652ABD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5A4E2-35D1-4177-9640-DC8F9176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9E3-C6D8-4FA1-BBAD-79E1C36A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7D2-B2E1-4150-93F8-0BE9D3AD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618-7C32-4659-8274-EB2614F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10E-AE3F-42AF-A101-92356E6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A4-EFD5-4924-8EC3-B16A835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FC5-994E-4BD0-A804-8EC4E87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F5C-1CA3-4126-BDAF-55A8B75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CA7-C362-4F14-A0E7-200985D23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EF06-327C-41E2-B543-4B9C953A2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7;&#1085;&#1072;&#1082;_&#1087;&#1072;&#1088;&#1072;&#1075;&#1088;&#1072;&#1092;&#1072;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4200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Плавание судов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132000" y="4797360"/>
            <a:ext cx="29527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588000" y="479736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оизмещение суд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24000" y="1341000"/>
            <a:ext cx="2962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 воды, вытесняемой судном при погружении до ватерлинии, равный силе тяжести, действующей на судно с грузом, называется водоизмещением суд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Картинка 59 из 13198"/>
          <p:cNvPicPr/>
          <p:nvPr/>
        </p:nvPicPr>
        <p:blipFill>
          <a:blip r:embed="rId2"/>
          <a:stretch/>
        </p:blipFill>
        <p:spPr>
          <a:xfrm>
            <a:off x="468360" y="1268280"/>
            <a:ext cx="5543640" cy="237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3716280"/>
            <a:ext cx="58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удно "Виктор Фалеев" длиной 56 метров, водоизмещением около 1000 тон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46530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288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рузоподъём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из водоизмещения вычесть вес самого судна, то получим грузоподъемность этого судна. Она показывает вес груза,  перевозимого судном. Пределы грузоподъемности меняются в зависимости от того, по какой воде будет ходить судно: оно может перевозить больший вес в соленой морской воде, у которой плотность выше, чем у пресной воды, и в холодной воде, у которой плотность выше, чем у теплой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4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51 из 7071"/>
          <p:cNvPicPr/>
          <p:nvPr/>
        </p:nvPicPr>
        <p:blipFill>
          <a:blip r:embed="rId3"/>
          <a:stretch/>
        </p:blipFill>
        <p:spPr>
          <a:xfrm>
            <a:off x="539640" y="4076640"/>
            <a:ext cx="4464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одные су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51280" y="1916280"/>
            <a:ext cx="331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ая подводная лодка была построена в 1620 году в Англии, а в России - спустя 100 лет, в 1724 году. Любая подводная лодка – прочный герметический корпус с множеством отсе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Картинка 3 из 109237"/>
          <p:cNvPicPr/>
          <p:nvPr/>
        </p:nvPicPr>
        <p:blipFill>
          <a:blip r:embed="rId2"/>
          <a:stretch/>
        </p:blipFill>
        <p:spPr>
          <a:xfrm>
            <a:off x="250920" y="1628640"/>
            <a:ext cx="2795400" cy="316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5 из 110355"/>
          <p:cNvPicPr/>
          <p:nvPr/>
        </p:nvPicPr>
        <p:blipFill>
          <a:blip r:embed="rId3"/>
          <a:stretch/>
        </p:blipFill>
        <p:spPr>
          <a:xfrm>
            <a:off x="250920" y="4876920"/>
            <a:ext cx="540216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Картинка 2 из 110355"/>
          <p:cNvPicPr/>
          <p:nvPr/>
        </p:nvPicPr>
        <p:blipFill>
          <a:blip r:embed="rId4"/>
          <a:stretch/>
        </p:blipFill>
        <p:spPr>
          <a:xfrm>
            <a:off x="3386160" y="1700280"/>
            <a:ext cx="2259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цип погружения и всплытия лодки основан на заборе воды из моря в балластные системы и выдавливания воды сжатым воздухом при всплы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Приборы на подводной лодке"/>
          <p:cNvPicPr/>
          <p:nvPr/>
        </p:nvPicPr>
        <p:blipFill>
          <a:blip r:embed="rId2"/>
          <a:stretch/>
        </p:blipFill>
        <p:spPr>
          <a:xfrm>
            <a:off x="395280" y="4581360"/>
            <a:ext cx="4321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Баллоны с жатым воздухом"/>
          <p:cNvPicPr/>
          <p:nvPr/>
        </p:nvPicPr>
        <p:blipFill>
          <a:blip r:embed="rId3"/>
          <a:stretch/>
        </p:blipFill>
        <p:spPr>
          <a:xfrm>
            <a:off x="5076720" y="4581360"/>
            <a:ext cx="381024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4321080" cy="221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14 из 259"/>
          <p:cNvPicPr/>
          <p:nvPr/>
        </p:nvPicPr>
        <p:blipFill>
          <a:blip r:embed="rId5"/>
          <a:stretch/>
        </p:blipFill>
        <p:spPr>
          <a:xfrm>
            <a:off x="5076720" y="2205000"/>
            <a:ext cx="381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ые подводные лодки имеют высоту с пятиэтажный дом и длину более 150 метров. На них устанавливают атомный реактор, который может работать без дозаправки более одного года. Лодки оснащены современным оружием и представляют большую опасность для против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Картинка 59 из 1695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70 из 1695"/>
          <p:cNvPicPr/>
          <p:nvPr/>
        </p:nvPicPr>
        <p:blipFill>
          <a:blip r:embed="rId3"/>
          <a:stretch/>
        </p:blipFill>
        <p:spPr>
          <a:xfrm>
            <a:off x="4788000" y="1557360"/>
            <a:ext cx="410508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4321080" cy="233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125 из 1695"/>
          <p:cNvPicPr/>
          <p:nvPr/>
        </p:nvPicPr>
        <p:blipFill>
          <a:blip r:embed="rId5"/>
          <a:stretch/>
        </p:blipFill>
        <p:spPr>
          <a:xfrm>
            <a:off x="4762440" y="4221000"/>
            <a:ext cx="4130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блемы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84360" y="1267920"/>
            <a:ext cx="270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Нефть и нефтепродукты на современном этапе являются основными загрязнителями внутренних водоемов, вод и морей, Мирового океана. Попадая в водоемы, они создают разные формы загрязнения: плавающую на воде нефтяную пленку, растворенные в воде  нефтепродукты, осевшие на дно тяжелые фракции и т.д. Это затрудняет процессы фотосинтеза в воде из-за прекращения доступа солнечных лучей, а также вызывает гибель растений и животных. При этом изменяется запах, вкус, окраска, поверхностное натяжение, вязкость воды, уменьшается количество кислорода, появляются вредные органические вещества, вода приобретает токсические свойства и  представляет угрозу не только для человека.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2403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2403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Картинка 22 из 4518"/>
          <p:cNvPicPr/>
          <p:nvPr/>
        </p:nvPicPr>
        <p:blipFill>
          <a:blip r:embed="rId4"/>
          <a:stretch/>
        </p:blipFill>
        <p:spPr>
          <a:xfrm>
            <a:off x="3635280" y="155736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28 из 4518"/>
          <p:cNvPicPr/>
          <p:nvPr/>
        </p:nvPicPr>
        <p:blipFill>
          <a:blip r:embed="rId5"/>
          <a:stretch/>
        </p:blipFill>
        <p:spPr>
          <a:xfrm>
            <a:off x="3635280" y="4149720"/>
            <a:ext cx="28083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§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дготовить сообщение на тем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нение подводного флота в мирных це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ель «Тита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 водного транспор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21844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ссмотреть физические способы плавания судо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е плавательные сред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7120" y="2133720"/>
            <a:ext cx="374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ыми плавательными средствами были стволы деревьев, надутые мешки из шкур животных, плоты, позднее – лод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916360" y="432900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DVD_004.jpg"/>
          <p:cNvPicPr/>
          <p:nvPr/>
        </p:nvPicPr>
        <p:blipFill>
          <a:blip r:embed="rId4"/>
          <a:stretch/>
        </p:blipFill>
        <p:spPr>
          <a:xfrm>
            <a:off x="179280" y="2060640"/>
            <a:ext cx="212436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916360" y="2060640"/>
            <a:ext cx="2232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арусный фл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19280" y="1905120"/>
            <a:ext cx="3467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цивилизации привело к необходимости расширение торговли, перевозки различных товаров, открытие новых торговых путей. При этом не только изменились размеры плавающих судов, но и их конструкция. Более четырех тысяч лет назад стали использовать паруса. Парусный флот достиг истинного расцвета к середине 19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254772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ые парох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35280" y="1341360"/>
            <a:ext cx="3708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ворот в строительстве судов произошел в 1807 году, когда Р. Фултон построил первый пароход в США, который работал на энергии водяного пара. «Клермонт» - первый пароход      Р. Фултона мог развивать скорость   9 км/ч. В России первый пароход был построен в 1815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76228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4 из 423"/>
          <p:cNvPicPr/>
          <p:nvPr/>
        </p:nvPicPr>
        <p:blipFill>
          <a:blip r:embed="rId3"/>
          <a:stretch/>
        </p:blipFill>
        <p:spPr>
          <a:xfrm>
            <a:off x="3132000" y="162864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7 из 138739"/>
          <p:cNvPicPr/>
          <p:nvPr/>
        </p:nvPicPr>
        <p:blipFill>
          <a:blip r:embed="rId4"/>
          <a:stretch/>
        </p:blipFill>
        <p:spPr>
          <a:xfrm>
            <a:off x="250920" y="4005360"/>
            <a:ext cx="2736720" cy="170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26 из 138739"/>
          <p:cNvPicPr/>
          <p:nvPr/>
        </p:nvPicPr>
        <p:blipFill>
          <a:blip r:embed="rId5"/>
          <a:stretch/>
        </p:blipFill>
        <p:spPr>
          <a:xfrm>
            <a:off x="3132000" y="400536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временные су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51280" y="1483920"/>
            <a:ext cx="3492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оительство современных плавательных судов основано на применение материалов, плотность которых выше плотности воды. Почему же танкеры, крейсеры, изготовленные из стали и железа держаться на в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8764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93 из 1935"/>
          <p:cNvPicPr/>
          <p:nvPr/>
        </p:nvPicPr>
        <p:blipFill>
          <a:blip r:embed="rId4"/>
          <a:stretch/>
        </p:blipFill>
        <p:spPr>
          <a:xfrm>
            <a:off x="179280" y="393372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987640" y="400536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чем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же суда, изготовленные из стали и железа держаться на во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с предмета заставляет его погружаться в воду. Погружаясь, предмет вытесняет воду. Но если плотность предмета (т. е. его вес относительно размеров) будет меньше плотности воды, которую он вытесняет, то он будет плавать. Этим и объясняется, почему тяжелый деревянный плот может плавать в воде, а маленький камень пойдет ко дну: просто у первого вес распределяется на большую площадь, а у второго вес сконцентрирован в малом объем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да плавают по этому же принципу. Благодаря воздуху, находящемуся у них внутри, плотность их меньше, чем можно было бы ожидать, судя по внешнему виду. Однако у больших судов, которые служат для перевозки тяжелых грузов, воздуха внутри меньше, если они загруже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адка кораб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5734080"/>
            <a:ext cx="889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убину, на которую судно погружается в воду, называют осад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4033800" cy="192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4 из 26804"/>
          <p:cNvPicPr/>
          <p:nvPr/>
        </p:nvPicPr>
        <p:blipFill>
          <a:blip r:embed="rId3"/>
          <a:stretch/>
        </p:blipFill>
        <p:spPr>
          <a:xfrm>
            <a:off x="395280" y="1413000"/>
            <a:ext cx="42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ртинка 56 из 26804"/>
          <p:cNvPicPr/>
          <p:nvPr/>
        </p:nvPicPr>
        <p:blipFill>
          <a:blip r:embed="rId4"/>
          <a:stretch/>
        </p:blipFill>
        <p:spPr>
          <a:xfrm>
            <a:off x="395280" y="3645000"/>
            <a:ext cx="4176720" cy="194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276 из 26804"/>
          <p:cNvPicPr/>
          <p:nvPr/>
        </p:nvPicPr>
        <p:blipFill>
          <a:blip r:embed="rId5"/>
          <a:stretch/>
        </p:blipFill>
        <p:spPr>
          <a:xfrm>
            <a:off x="4859280" y="1413000"/>
            <a:ext cx="4033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терли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ибольшая допустимая осадка отмечена на корпусе судна красной линией, называемой ватерлини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74328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431928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3743280" cy="195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00720" y="3500280"/>
            <a:ext cx="4319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7:19:17Z</dcterms:created>
  <dc:creator>Саша</dc:creator>
  <dc:description/>
  <dc:language>en-US</dc:language>
  <cp:lastModifiedBy>Alex</cp:lastModifiedBy>
  <dcterms:modified xsi:type="dcterms:W3CDTF">2013-03-09T14:14:38Z</dcterms:modified>
  <cp:revision>6</cp:revision>
  <dc:subject/>
  <dc:title>Плавание судов</dc:title>
</cp:coreProperties>
</file>